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39F4-CBA0-47EC-A7AC-AE85F02C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2C94-F9B1-4FD6-A143-C8AD8FF9A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A2B-9814-4574-91FF-E0246FAE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4D4-7A04-4542-A7F8-B8F8C365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FEC-8EED-4BBB-84FD-050652BB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543-173A-4C64-B734-BF311374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E5E-605F-471F-AFC6-0A10C0DC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61A-EE5E-4690-A512-4445035D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788-F286-4E1B-BE2C-40A490C9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493-F067-48C3-82B8-2E0F7F8E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F37-7389-4425-8BFF-B7F8CF17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D2F-04ED-43CA-BFD6-2DC0258B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6E6-0512-4671-BBFC-1597E26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C03-5C66-4E80-BB7F-6FC186E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EF81-7097-4BAC-8987-1E8A54C30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hahmina Ham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447920" y="1752480"/>
            <a:ext cx="56386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s amigas.  Que haces¿ Donde estas¿  Como está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76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429000"/>
            <a:ext cx="175248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Rhahmina. Vivo en NY. Yo tengo catorce años.  Yo soy simpática, bonita y divertida. Yo tengo tres  hermanos, son fastidiosos.  Tenemos dos pájaros inteligente. Adiós amigas!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 es simpática. Ustedes son mis amiga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as, Rhahmina!  Te amo amigo.   Yo estoy en la ciuda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 tiene una fiesta mañana. ¿Tu quieres venir  a la fiesta? Nuestr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fiesta será divertida.  _x0016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Rhahmina!  Espero el bus.  Estoy aburri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us fiestas son locas. ¿Tu vas?  Tu eres  linda!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amos en Queens con nuestras amigas. Ellos están sorprendido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105680" y="482904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9:44Z</dcterms:modified>
  <cp:revision>118</cp:revision>
  <dc:subject/>
  <dc:title>Profile</dc:title>
</cp:coreProperties>
</file>